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7D42-9666-4168-8243-7B712391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A8BC-6225-4D8B-9FE5-99941103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44D2-6E95-469A-8F97-064AD41E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9BC4-AB94-42B9-8CED-526238EE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2FE3-EF95-437F-B48B-87CEA7A5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907F-D391-406F-AD54-42551A8D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3F5B-1847-4E26-8519-5BDB6ABE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015F-DE62-462D-B4B5-F774F93C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958A-5E05-487C-B7E5-57DBAA31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7E86-D6D7-4C48-8BDB-E3C412A9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AD3A-6532-4EB3-B9B2-92194EF7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F955-2E6E-44C5-93D5-85859BD9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3A9A-8669-483B-9AB7-E1A7B479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FB51-AA81-426C-ADF8-64D00B77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F16D-29BC-4710-B3F6-9F3B3529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E8BE-DE3E-4708-9A37-F254FE50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522C-ABF4-459F-A087-7A98E666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8657C-C1E6-4DB4-B159-B7B5620F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6F378-6188-4620-AF55-59608A90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BC64B-1DD6-4EA7-95AD-6D3345B5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39F07-3749-4836-9291-F137924B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BC207-9CD8-4C07-9C69-CB8D8AB9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2805-F8E0-4750-9A90-A33B0B29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FC9E6-A275-4A79-8C45-CA387C3C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15492-FDEB-45E2-AD83-E82723F9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59B04-350B-42B2-AC49-49888BB5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6EFB4-EA40-4238-93EE-4E7CCD15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AADB3-676F-4930-958C-AD2D539A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0A939-A09D-473B-902F-62222619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F9D0D-BACA-457F-8EFA-88D61DC8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A795D-E699-41B3-A8F1-F78CA34F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58BD1-42B6-4A5D-A4C3-8AFD4D40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E14E3-F715-43BF-B812-85227263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4577-5EA1-4247-A558-2571E6B3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EE082-1C71-4E06-B10F-5EF80D7D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76268-DED5-495A-A761-CFA7462C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0AD42-E1A6-4E45-BA4E-EC77E64B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CD4EE-016E-4982-AD2D-6E47B061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97EEA-C3A8-4571-AADF-FCFA841A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39621-557F-4A97-832B-816474E5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A56D6-E06A-4040-97F3-E62537D2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A6872-2DE0-40FE-AB5C-46717781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70506-095A-418B-A073-348BA5E1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4CC64-6EE5-4692-91FD-BAA3CEFC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83FE-0930-46F7-8DBE-A43B20FB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36760-E6AF-439E-9E33-5A7F2682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5635C-7788-4BA1-9A26-D1BCDCD0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F701D-FD12-4637-8D4A-CAEC3C35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B2443-85B6-46D8-B7A6-8ACEE9A0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3A014-6818-466B-B63F-E9F80D3C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CE983-41C3-46D3-9144-4CFA7A21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C105A-B4F3-4813-99BB-A90CA75C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96052-5806-413C-81BD-552CBF53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F0B21-368E-4826-A0C8-4A53329B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739AA-724F-4ED8-8228-2F3E6665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D971-E1BA-4709-9FAA-7662B74D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140EF-CF7F-416A-AE91-F1EBD5DD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494A9-531E-46A8-B3FB-8E8C9E02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5EAE6-2D27-4C4F-B169-013236F0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F0E9F-3B52-424A-9376-46F11153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3E06A-52A0-4387-9A0D-0A197EBB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262DB-EBF5-4474-A486-13C857B9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65C23-C103-41BA-B5CA-21CE5C21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C3723-7E18-4FF2-A588-26FC211A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9F47C-383B-4B5D-AA73-618F7EA5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03ADD-7014-4D1A-A133-CD9FD732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E8BB-693B-4A93-99FD-AF9C6FF9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074EB-D182-4C87-9E20-48A2FDA5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5D43D-AE55-453B-A452-57001E32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D6D9B-E967-4453-8E62-37F85AA8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AF482-1FBB-4603-8D94-7B42386A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7797C-DC3A-4645-84B4-8E859256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6DF73-C027-4E10-AE5C-A38DEDEA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D9A3D-52EA-4EC0-B506-B520D3EF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11997-7726-4F1D-A1DA-F2327D0E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1DF85-0755-4F54-A64E-4862F697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E075F-3375-44C4-B8C7-6F047F2E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BFB2-5FB5-4611-AD0F-39371236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F3A98-6505-4422-BE9F-E10A51B6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004A0-29FA-4A14-9781-378BEAAD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4FCEE-F4D1-4375-857D-95247BFC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E3915-3802-4977-AAD1-BCC29D96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C2587-945D-45C1-ADBD-56EFEA4C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7C448-E742-4980-8E46-A8831395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5F6A6-B928-4BA3-890D-9A0E9183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35F67-F587-44CA-A004-D4600618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97DB7-9C6A-41B8-9DE4-F376D983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65EAA-970C-408B-9D86-0AD51E39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CF98-3108-4CC6-84E9-D28BB761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0BC19-2812-4E7C-AC28-855748D9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49FF1-A053-4DC9-A343-6E0D306F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59366-D824-4266-BDA7-42105BD9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10CDB-B46B-4CE7-8185-974DA965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2F7B8-D787-4F6C-B8E8-F83D6807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77B52-21F1-48E0-B254-6445283E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B1DF8-6D9C-4BF2-B9D0-D8E4C491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EDF3-1EBC-4656-92B6-33581E4FF7A8}" type="slidenum">
              <a:rPr b="1" lang="en-US" sz="1200" spc="-1" strike="noStrike">
                <a:solidFill>
                  <a:srgbClr val="c6bc9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lourish2.png"/>
          <p:cNvPicPr/>
          <p:nvPr/>
        </p:nvPicPr>
        <p:blipFill>
          <a:blip r:embed="rId3"/>
          <a:stretch/>
        </p:blipFill>
        <p:spPr>
          <a:xfrm>
            <a:off x="-6480" y="27986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1FD8-7EC5-4885-B78B-C06741ABF557}" type="slidenum">
              <a:rPr b="1" lang="en-US" sz="1200" spc="-1" strike="noStrike">
                <a:solidFill>
                  <a:srgbClr val="c6bc9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8DF8-9F40-4A9C-9118-97FD77952FA6}" type="slidenum">
              <a:rPr b="1" lang="en-US" sz="1200" spc="-1" strike="noStrike">
                <a:solidFill>
                  <a:srgbClr val="c6bc9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flourish2.png"/>
          <p:cNvPicPr/>
          <p:nvPr/>
        </p:nvPicPr>
        <p:blipFill>
          <a:blip r:embed="rId3"/>
          <a:stretch/>
        </p:blipFill>
        <p:spPr>
          <a:xfrm>
            <a:off x="-6480" y="2676600"/>
            <a:ext cx="9156960" cy="94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flourish2.png"/>
          <p:cNvPicPr/>
          <p:nvPr/>
        </p:nvPicPr>
        <p:blipFill>
          <a:blip r:embed="rId4"/>
          <a:stretch/>
        </p:blipFill>
        <p:spPr>
          <a:xfrm>
            <a:off x="-6480" y="267660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777C-3BE2-4B44-9837-5DB38A00C991}" type="slidenum">
              <a:rPr b="1" lang="en-US" sz="1200" spc="-1" strike="noStrike">
                <a:solidFill>
                  <a:srgbClr val="c6bc9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B5DF-46A3-4F0E-8C49-710F552902A7}" type="slidenum">
              <a:rPr b="1" lang="en-US" sz="1200" spc="-1" strike="noStrike">
                <a:solidFill>
                  <a:srgbClr val="c6bc9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256D-5598-4D4B-886E-DEBB12AE9E48}" type="slidenum">
              <a:rPr b="1" lang="en-US" sz="1200" spc="-1" strike="noStrike">
                <a:solidFill>
                  <a:srgbClr val="c6bc9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56ED-4A37-4F8A-BB52-7869CAE57099}" type="slidenum">
              <a:rPr b="1" lang="en-US" sz="1200" spc="-1" strike="noStrike">
                <a:solidFill>
                  <a:srgbClr val="c6bc9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9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37302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4CF4-3261-4290-A982-7CDD269228D9}" type="slidenum">
              <a:rPr b="1" lang="en-US" sz="1200" spc="-1" strike="noStrike">
                <a:solidFill>
                  <a:srgbClr val="c6bc9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ТЕНДЕНЦИИ РАЗВИТИЯ СЕМЬИ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В СОВРЕМЕННОМ МИРЕ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3"/>
          <p:cNvSpPr/>
          <p:nvPr/>
        </p:nvSpPr>
        <p:spPr>
          <a:xfrm>
            <a:off x="900000" y="965160"/>
            <a:ext cx="748836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С</a:t>
            </a: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емья как социальная общность людей, имеющая сложную структуру социального института и малой социальной группы, как фундаментальная ячейка общества выполняет важнейшие социальные функции, играет особую роль в жизни человека и общества. Исследование семьи как уникального социокультурного феномена - одна из сложных и актуальных проблем современности, без решения которой невозможен дальнейший социальный прогресс человечества. Институт семьи рассматривается исследователями как социализирующая структура, воспроизводящая человека не только как биологическую единицу, но и как индивида, обладающего набором социальных, культурных, нравственных качеств. Взгляд на семью как на социальный институт в той или иной степени отражается в трудах многих великих мыслителей (Аристотель, Платон, М.Бубер, Ф.Бэкон, Т.Гоббс, И.Кант, К.Маркс, Н.А.Бердяев, В.В.Розанов, П.Флоренский). Такой подход воспроизводится и в современных социологических исследованиях, например, в работах А.Н.Антонова, А.Г.Вишневского, С.И.Голода,М.С.Мацковского, Л.И.Савинова, А.Г.Харчева и др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C:\Users\Satchura\20110822192801.jpg"/>
          <p:cNvPicPr/>
          <p:nvPr/>
        </p:nvPicPr>
        <p:blipFill>
          <a:blip r:embed="rId1"/>
          <a:stretch/>
        </p:blipFill>
        <p:spPr>
          <a:xfrm>
            <a:off x="900000" y="404640"/>
            <a:ext cx="3645000" cy="45817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C:\Users\Satchura\2_98_29824_1283356697.jpg"/>
          <p:cNvPicPr/>
          <p:nvPr/>
        </p:nvPicPr>
        <p:blipFill>
          <a:blip r:embed="rId2"/>
          <a:stretch/>
        </p:blipFill>
        <p:spPr>
          <a:xfrm>
            <a:off x="5508720" y="2290680"/>
            <a:ext cx="3047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3" descr="C:\Users\Satchura\shutterstock_553447871280501633_xwidth300.jpg"/>
          <p:cNvPicPr/>
          <p:nvPr/>
        </p:nvPicPr>
        <p:blipFill>
          <a:blip r:embed="rId1"/>
          <a:stretch/>
        </p:blipFill>
        <p:spPr>
          <a:xfrm>
            <a:off x="108000" y="404640"/>
            <a:ext cx="3263760" cy="58215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C:\Users\Satchura\3132511.jpg"/>
          <p:cNvPicPr/>
          <p:nvPr/>
        </p:nvPicPr>
        <p:blipFill>
          <a:blip r:embed="rId2"/>
          <a:stretch/>
        </p:blipFill>
        <p:spPr>
          <a:xfrm>
            <a:off x="3371760" y="2997360"/>
            <a:ext cx="5772240" cy="3846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C:\Users\Satchura\article-1377760-0355FA1F0000044D-650_468x416.jpg"/>
          <p:cNvPicPr/>
          <p:nvPr/>
        </p:nvPicPr>
        <p:blipFill>
          <a:blip r:embed="rId3"/>
          <a:stretch/>
        </p:blipFill>
        <p:spPr>
          <a:xfrm>
            <a:off x="3371760" y="0"/>
            <a:ext cx="55929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C:\Users\Satchura\1-b.jpg"/>
          <p:cNvPicPr/>
          <p:nvPr/>
        </p:nvPicPr>
        <p:blipFill>
          <a:blip r:embed="rId1"/>
          <a:stretch/>
        </p:blipFill>
        <p:spPr>
          <a:xfrm>
            <a:off x="250920" y="189000"/>
            <a:ext cx="4541760" cy="2958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C:\Users\Satchura\семейный-кризис.jpg"/>
          <p:cNvPicPr/>
          <p:nvPr/>
        </p:nvPicPr>
        <p:blipFill>
          <a:blip r:embed="rId2"/>
          <a:stretch/>
        </p:blipFill>
        <p:spPr>
          <a:xfrm>
            <a:off x="4067280" y="3147840"/>
            <a:ext cx="485136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C:\Users\Satchura\article-1377760-0355FA1F0000044D-650_468x416.jpg"/>
          <p:cNvPicPr/>
          <p:nvPr/>
        </p:nvPicPr>
        <p:blipFill>
          <a:blip r:embed="rId1"/>
          <a:stretch/>
        </p:blipFill>
        <p:spPr>
          <a:xfrm>
            <a:off x="2050920" y="1268280"/>
            <a:ext cx="5113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5"/>
          <p:cNvSpPr/>
          <p:nvPr/>
        </p:nvSpPr>
        <p:spPr>
          <a:xfrm>
            <a:off x="1042920" y="1700280"/>
            <a:ext cx="691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Кризис семьи проявляется 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В росте числа разводов </a:t>
            </a:r>
            <a:r>
              <a:rPr b="0" lang="en-US" sz="1800" spc="-1" strike="noStrike">
                <a:solidFill>
                  <a:srgbClr val="002060"/>
                </a:solidFill>
                <a:latin typeface="Garamond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В увеличении  количества добрачных и внебрачных  детей</a:t>
            </a:r>
            <a:r>
              <a:rPr b="0" lang="en-US" sz="1800" spc="-1" strike="noStrike">
                <a:solidFill>
                  <a:srgbClr val="002060"/>
                </a:solidFill>
                <a:latin typeface="Garamond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Во взаимном отчуждении членов семье</a:t>
            </a:r>
            <a:r>
              <a:rPr b="0" lang="en-US" sz="1800" spc="-1" strike="noStrike">
                <a:solidFill>
                  <a:srgbClr val="002060"/>
                </a:solidFill>
                <a:latin typeface="Garamond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В ослаблении воспитательного воздействия родителей на детей </a:t>
            </a:r>
            <a:r>
              <a:rPr b="0" lang="en-US" sz="1800" spc="-1" strike="noStrike">
                <a:solidFill>
                  <a:srgbClr val="002060"/>
                </a:solidFill>
                <a:latin typeface="Garamond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В увеличении числа неполных семей </a:t>
            </a:r>
            <a:r>
              <a:rPr b="0" lang="en-US" sz="1800" spc="-1" strike="noStrike">
                <a:solidFill>
                  <a:srgbClr val="002060"/>
                </a:solidFill>
                <a:latin typeface="Garamond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В преобладании нуклеарных семей </a:t>
            </a:r>
            <a:r>
              <a:rPr b="0" lang="en-US" sz="1800" spc="-1" strike="noStrike">
                <a:solidFill>
                  <a:srgbClr val="002060"/>
                </a:solidFill>
                <a:latin typeface="Garamond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В замене традиционных ролей, которые играли муж и жена </a:t>
            </a:r>
            <a:r>
              <a:rPr b="0" lang="en-US" sz="1800" spc="-1" strike="noStrike">
                <a:solidFill>
                  <a:srgbClr val="002060"/>
                </a:solidFill>
                <a:latin typeface="Garamond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Семья перестает зависеть от социальных норм и санкций , снижается ценность семьи с детьми </a:t>
            </a:r>
            <a:r>
              <a:rPr b="0" lang="en-US" sz="1800" spc="-1" strike="noStrike">
                <a:solidFill>
                  <a:srgbClr val="002060"/>
                </a:solidFill>
                <a:latin typeface="Garamond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В росте кол-ва социальных сирот 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9:12:26Z</dcterms:created>
  <dc:creator>Satchura</dc:creator>
  <dc:description/>
  <dc:language>en-US</dc:language>
  <cp:lastModifiedBy>Vlad</cp:lastModifiedBy>
  <dcterms:modified xsi:type="dcterms:W3CDTF">2012-04-15T11:19:48Z</dcterms:modified>
  <cp:revision>10</cp:revision>
  <dc:subject/>
  <dc:title>Презентация PowerPoint</dc:title>
</cp:coreProperties>
</file>